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3A1-DA26-4134-AE3E-66D6AF04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85D-8B4E-4EFF-B7D8-852CA915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F70-3722-4AD1-8743-9EAE55AC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16F-8B79-4F47-BFD1-8AFEBD0E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D1C-A5CD-4103-B12E-28020A8B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00B-649A-4089-980D-CB8081B4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286-1831-46E2-9D68-B2DF3844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613-860D-4839-9D17-CC632B43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E4F-3AEE-462E-AF12-0BAEF7E0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6E0-D118-4B08-986C-72CD2099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921-4A90-40E5-8E5C-366B20E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F75-161C-47DA-AB75-DF6FDE45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52C-B651-4B43-A790-2BDB96A7248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audinf.com/jpghi/000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a/imgres?imgurl=http://en.wikipedia.org/upload/c/c2/CWswastika.png&amp;imgrefurl=http://en.wikipedia.org/wiki/Nazi&amp;h=160&amp;w=160&amp;sz=2&amp;tbnid=exxT0Vwdk70J:&amp;tbnh=92&amp;tbnw=92&amp;start=5&amp;prev=/images%3Fq%3Dswastika%26hl%3Den%26lr%3D%26ie%3DUTF-8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brentwood-council.gov.uk/images/img_130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embers.aol.com/davlowe/mussolini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67600" cy="4272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3290760"/>
            <a:ext cx="411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LED PARTICIP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who are allowed to participate and contribute to something are more likely to suppor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atorships often stage rallies and elections into displays of support for the gover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youth groups force the youth to take an active role in their coun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533680"/>
            <a:ext cx="3809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TECHNIQUE IS BEING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n gave no reason for taking the journalist away. They didn’t say who they were, They just took him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7432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 was a child, I knew I supported the government. Everything I have read and studied since has confirmed the correctness of this position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733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never knew if you were being watched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191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didn’t let in so many immigrants in our country we wouldn’t have so much crim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876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overnment held their meetings in the evening in the center of a huge square. The area was filled with flags and men in uniform. Thousands of people would come out to witness the drama and cheer as they played the national anthem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DICTATO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at good fortune for those in power that people do not think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- Adolf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as are far more powerful than guns. We don't allow our enemies to have guns, why should we allow them to have idea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Joseph Stalin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3124440" cy="2076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4038480"/>
            <a:ext cx="312444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MON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where one individual has absolute control given to him by G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ader has the ability to pass power on to his 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usually a feature of a tradition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would be Saudi Ara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209680"/>
            <a:ext cx="3809880" cy="249732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838080" y="5029200"/>
            <a:ext cx="3581280" cy="577800"/>
            <a:chOff x="838080" y="5029200"/>
            <a:chExt cx="3581280" cy="577800"/>
          </a:xfrm>
        </p:grpSpPr>
        <p:sp>
          <p:nvSpPr>
            <p:cNvPr id="87" name=""/>
            <p:cNvSpPr/>
            <p:nvPr/>
          </p:nvSpPr>
          <p:spPr>
            <a:xfrm>
              <a:off x="838080" y="5029200"/>
              <a:ext cx="358128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838080" y="5029200"/>
              <a:ext cx="3580920" cy="577800"/>
              <a:chOff x="838080" y="5029200"/>
              <a:chExt cx="3580920" cy="577800"/>
            </a:xfrm>
          </p:grpSpPr>
          <p:sp>
            <p:nvSpPr>
              <p:cNvPr id="89" name=""/>
              <p:cNvSpPr/>
              <p:nvPr/>
            </p:nvSpPr>
            <p:spPr>
              <a:xfrm>
                <a:off x="838080" y="5029200"/>
                <a:ext cx="35809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38080" y="5029200"/>
                <a:ext cx="3580920" cy="57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Times New Roman"/>
                  </a:rPr>
                  <a:t>King Fahd bin Abdul Aziz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ITARY DICTATO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er is in control of armed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litary ensures that the laws, courts and police carry out the will of the l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has an appearance of a parliamentary type of government, but citizens have no say in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include Columbia, Myanmar, former Afghanistan, Chile and Ira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81024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NOCHE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ler of Chile(1973-199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29724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gusto Pinoch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me president of the Council of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junta of military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n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mall ruling group immediately after a c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sed harsh military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0,000 people arrested/tortured/kidnapp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laimed President of Chile in 19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market policies at first reduced inflation and created short lived economic bo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2 Chile fell into an economic collapse and lost pop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0 resigned presidency but remained Commander in Chief of the Ar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TIONALIST ONE PARTY ST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UTHORITARIA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a Fascist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 single mass party under one l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ly nationalistic, racist, imperialistic and militaris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appears in advanced and industrial cou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no concrete theory to justifying its 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zi Germany and Fascist Italy are common ex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OLOGICAL ONE PARTY STA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OTALITARIA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a Communist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mall political group holds p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ment policy is based on a an ideology. (equality of a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appears in underdeveloped or backwards countries that wish to industrial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rmer Soviet Union and China are examp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90720" y="685800"/>
            <a:ext cx="7086600" cy="556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OTALITARIAN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ASCISM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TALY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HORI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ystem of government in which the leaders take political power and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eople submit to this auth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uthoritarian governments argue that the security and economic interest of people are less important than those of the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3504960"/>
            <a:ext cx="4033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MOC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by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form of government characterized by majority r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itizen participation, accountability, minority r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acceptance of opposi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 of P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litic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talians Emerged As Victors After WW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Why Fasc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6898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2438280"/>
            <a:ext cx="655308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d along economic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: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: po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87480"/>
            <a:ext cx="8381880" cy="677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1600200"/>
            <a:ext cx="82296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stration &amp; Humiliation over l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n North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for imperialist superiority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tt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05520" y="1066680"/>
            <a:ext cx="4038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ally &amp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gicall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ined by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of the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15 billion sp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00,000 l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14400" y="62485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484960"/>
            <a:ext cx="9144000" cy="137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ntment from not acquiring land promised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 for fighting on the side of the allies. (blam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mier Orlan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09680"/>
            <a:ext cx="601992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Domestic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un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dequate food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n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00600" y="1676520"/>
            <a:ext cx="4114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Fear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IL DUC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d from 1922 –194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t that democracy did not have the strength to survive in a violent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dure and conquer, required directed activity and disciplined eff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believed men were at their best while engaged in w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0388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1640" y="9903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solini is the father of Fasc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in power he systematically reduced the functions of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 used force and violence as a means to maintain p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policies glorified the nation and its l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 skills as a public speaker and his ability to touch the heart of his fellow countrymen gave many a sense of self-worth and pur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47464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66680" y="5410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as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n July 29, 18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he was a young Julius Ceasar and a young Hitler idolized h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 was a socialist and instilled strong socialist beliefs in Beni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 sent to a catholic boarding scho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 a bu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lled for stabbing a stu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01 received his elementary teaching certific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54080" y="1981080"/>
            <a:ext cx="3076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AUTHORITARIA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ublic decisions are made by the ruling elite regardless of public opin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s and freedoms of individuals or groups within society are not resp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dividual serves the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room for freedom of speech or assembly. (seen as a thre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political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2 left for Switzerland but was soon arrested for agitation and dep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 union involvement (rad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9 married daughter of his father’s mi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5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iled in 1911 for his opposition to Italy’s war in Lib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2 became editor of “Avanti” socialist newspap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2719440"/>
            <a:ext cx="38149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w WWI as a capitalist 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 changed mind and advocated entrance on the allied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result fired from “Avanti” and created his ow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6 he was drafted into army and by 1917 was wounded in battle and discharg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2398680"/>
            <a:ext cx="381492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ito Mussolini (II DUC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19 formed his own political party (fasci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n as alternate to “Red Menace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f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ackshir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quadistr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to intimidate and gain sup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asted he was the 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an alive that can bring back the glory days of the Roman Empir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2397240"/>
            <a:ext cx="37418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 D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October 28, 1922 Mussolini led his Fasc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ch on R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solini was immediately invited to form the Italian Government by King Victor Emmanuel I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the violence of the 1924 elections resulting in the death of Socialist party deputy Giacomo Mattoetti. Mussolini moved to suspend constitutional government and establish a totalitarian reg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proceeded in stages to establish a dictatorship by forbidding the parliament to initiate legislation, making him responsible to the king al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449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 D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9 created the Lateran Treaties with the P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solini recognized Roman Catholic Church as church of Ita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recognized Mussolini as lea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758960"/>
            <a:ext cx="44197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 DU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5 invaded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drew from League of N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6 signed the Rome-Berli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39 sign the Pact of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3 Mussolini was overthrown by Allies placed in pr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. 1943 Germany inv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514600"/>
            <a:ext cx="43434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33368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335268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deo: 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entury: Mussolini and Fascists take over Italy 19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457" t="37453" r="26133" b="46864"/>
          <a:stretch/>
        </p:blipFill>
        <p:spPr>
          <a:xfrm>
            <a:off x="1523880" y="1066680"/>
            <a:ext cx="6019920" cy="23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7357" t="54707" r="58778" b="31178"/>
          <a:stretch/>
        </p:blipFill>
        <p:spPr>
          <a:xfrm>
            <a:off x="1676520" y="3733920"/>
            <a:ext cx="2743200" cy="2244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8380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ink LET"/>
              </a:rPr>
              <a:t>IN A 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3352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ink LET"/>
              </a:rPr>
              <a:t>IN A dictat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CHARACTERISTICS OF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DICTATOR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4098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48520" y="2286000"/>
            <a:ext cx="2425680" cy="327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" y="2286000"/>
            <a:ext cx="2563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orms of media are controlled by the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s of the outside world and news of national concern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nso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tered, and presented in a manner that best serves the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aganda is one-sided , heavily biased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27160" y="1981080"/>
            <a:ext cx="292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OCTR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aimed at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distor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signed to strengthen support of the govern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s serve the interests of the st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cess is not measured in creativity, but rather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form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01880" y="1981080"/>
            <a:ext cx="317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APEGOA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3733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5333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ing grievances/problems towards other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ming others for your countries probl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CE AND T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ror and violence are effective ways to subdue and maintain control over a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 police are often given the power to imprison, torture or liquidate those that are seen as being disloyal or a thre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appearance of these people serve to intimidate any potential oppos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57240" y="1981080"/>
            <a:ext cx="326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1:16:39Z</dcterms:created>
  <dc:creator>Ceara Ormond</dc:creator>
  <dc:description/>
  <dc:language>en-US</dc:language>
  <cp:lastModifiedBy>ripkensa</cp:lastModifiedBy>
  <dcterms:modified xsi:type="dcterms:W3CDTF">2009-03-05T23:42:37Z</dcterms:modified>
  <cp:revision>4</cp:revision>
  <dc:subject/>
  <dc:title>PowerPoint Presentation</dc:title>
</cp:coreProperties>
</file>